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jetflyby2.wav" ContentType="audio/x-wav"/>
  <Override PartName="/ppt/media/caralarmoff.wav" ContentType="audio/x-wav"/>
  <Override PartName="/ppt/media/lzipup01.wav" ContentType="audio/x-wav"/>
  <Override PartName="/ppt/media/hzipup01.wav" ContentType="audio/x-wav"/>
  <Override PartName="/ppt/media/meepmeep.wav" ContentType="audio/x-wav"/>
  <Override PartName="/ppt/media/peopleooo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493E-8C66-4F6C-A794-13B89E48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A987-01E0-4DC1-949B-CCD16867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BCDD-68A0-4659-8617-1F5063EF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BD6D-8BAB-4F86-8A5D-2963B5A1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982F-40A0-4921-8229-D4386815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C2E4-9BCF-4171-A812-1F268980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A784-0358-4132-86FF-26C0D111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6272-7F38-4D11-A10D-24F9D99A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4D78-E9EA-4E3F-BF43-372D5C9B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8DC1-27DF-4536-807A-0743E702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B9E9-2F41-4EBD-BBF9-071F8E29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3FD7-83D7-4D04-A4C0-C96426AD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FA23-A6B5-4BC2-8F58-45EDC24E5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caralarmoff.wav"/><Relationship Id="rId7" Type="http://schemas.openxmlformats.org/officeDocument/2006/relationships/audio" Target="../media/caralarmoff.wav"/><Relationship Id="rId8" Type="http://schemas.openxmlformats.org/officeDocument/2006/relationships/audio" Target="../media/meepmeep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bserie06.wav"/><Relationship Id="rId3" Type="http://schemas.openxmlformats.org/officeDocument/2006/relationships/audio" Target="../media/hzipup01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meepmeep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hzipup01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meepmeep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bserie06.wav"/><Relationship Id="rId3" Type="http://schemas.openxmlformats.org/officeDocument/2006/relationships/audio" Target="../media/hzipup01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meepmeep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jetflyby2.wav"/><Relationship Id="rId7" Type="http://schemas.openxmlformats.org/officeDocument/2006/relationships/audio" Target="../media/bserie06.wav"/><Relationship Id="rId8" Type="http://schemas.openxmlformats.org/officeDocument/2006/relationships/audio" Target="../media/jetflyby2.wav"/><Relationship Id="rId9" Type="http://schemas.openxmlformats.org/officeDocument/2006/relationships/audio" Target="../media/bserie06.wav"/><Relationship Id="rId10" Type="http://schemas.openxmlformats.org/officeDocument/2006/relationships/audio" Target="../media/hzipup01.wav"/><Relationship Id="rId11" Type="http://schemas.openxmlformats.org/officeDocument/2006/relationships/audio" Target="../media/bserie06.wav"/><Relationship Id="rId12" Type="http://schemas.openxmlformats.org/officeDocument/2006/relationships/audio" Target="../media/zapbig0g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hzipup01.wav"/><Relationship Id="rId17" Type="http://schemas.openxmlformats.org/officeDocument/2006/relationships/audio" Target="../media/jetflyby2.wav"/><Relationship Id="rId18" Type="http://schemas.openxmlformats.org/officeDocument/2006/relationships/audio" Target="../media/bserie06.wav"/><Relationship Id="rId19" Type="http://schemas.openxmlformats.org/officeDocument/2006/relationships/audio" Target="../media/jetflyby2.wav"/><Relationship Id="rId20" Type="http://schemas.openxmlformats.org/officeDocument/2006/relationships/audio" Target="../media/bserie06.wav"/><Relationship Id="rId21" Type="http://schemas.openxmlformats.org/officeDocument/2006/relationships/audio" Target="../media/hzipup01.wav"/><Relationship Id="rId22" Type="http://schemas.openxmlformats.org/officeDocument/2006/relationships/audio" Target="../media/bserie06.wav"/><Relationship Id="rId23" Type="http://schemas.openxmlformats.org/officeDocument/2006/relationships/audio" Target="../media/zapbig0g.wav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bserie06.wav"/><Relationship Id="rId11" Type="http://schemas.openxmlformats.org/officeDocument/2006/relationships/audio" Target="../media/jetflyby2.wav"/><Relationship Id="rId12" Type="http://schemas.openxmlformats.org/officeDocument/2006/relationships/audio" Target="../media/bserie06.wav"/><Relationship Id="rId13" Type="http://schemas.openxmlformats.org/officeDocument/2006/relationships/audio" Target="../media/hzipup01.wav"/><Relationship Id="rId14" Type="http://schemas.openxmlformats.org/officeDocument/2006/relationships/audio" Target="../media/bserie06.wav"/><Relationship Id="rId15" Type="http://schemas.openxmlformats.org/officeDocument/2006/relationships/audio" Target="../media/zapbig0g.wav"/><Relationship Id="rId16" Type="http://schemas.openxmlformats.org/officeDocument/2006/relationships/audio" Target="../media/bserie06.wav"/><Relationship Id="rId17" Type="http://schemas.openxmlformats.org/officeDocument/2006/relationships/audio" Target="../media/peopleooo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hzipup01.wav"/><Relationship Id="rId22" Type="http://schemas.openxmlformats.org/officeDocument/2006/relationships/audio" Target="../media/jetflyby2.wav"/><Relationship Id="rId23" Type="http://schemas.openxmlformats.org/officeDocument/2006/relationships/audio" Target="../media/jetflyby2.wav"/><Relationship Id="rId24" Type="http://schemas.openxmlformats.org/officeDocument/2006/relationships/audio" Target="../media/jetflyby2.wav"/><Relationship Id="rId25" Type="http://schemas.openxmlformats.org/officeDocument/2006/relationships/audio" Target="../media/jetflyby2.wav"/><Relationship Id="rId26" Type="http://schemas.openxmlformats.org/officeDocument/2006/relationships/audio" Target="../media/bserie06.wav"/><Relationship Id="rId27" Type="http://schemas.openxmlformats.org/officeDocument/2006/relationships/audio" Target="../media/jetflyby2.wav"/><Relationship Id="rId28" Type="http://schemas.openxmlformats.org/officeDocument/2006/relationships/audio" Target="../media/bserie06.wav"/><Relationship Id="rId29" Type="http://schemas.openxmlformats.org/officeDocument/2006/relationships/audio" Target="../media/hzipup01.wav"/><Relationship Id="rId30" Type="http://schemas.openxmlformats.org/officeDocument/2006/relationships/audio" Target="../media/bserie06.wav"/><Relationship Id="rId31" Type="http://schemas.openxmlformats.org/officeDocument/2006/relationships/audio" Target="../media/zapbig0g.wav"/><Relationship Id="rId32" Type="http://schemas.openxmlformats.org/officeDocument/2006/relationships/audio" Target="../media/bserie06.wav"/><Relationship Id="rId33" Type="http://schemas.openxmlformats.org/officeDocument/2006/relationships/audio" Target="../media/peopleooo.wav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peopleooo.wav"/><Relationship Id="rId8" Type="http://schemas.openxmlformats.org/officeDocument/2006/relationships/audio" Target="../media/bserie06.wav"/><Relationship Id="rId9" Type="http://schemas.openxmlformats.org/officeDocument/2006/relationships/audio" Target="../media/caralarmoff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peopleooo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Round each number to the given place valu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190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1. Round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8.7398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o the nearest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11440" y="119052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2200" y="1833480"/>
            <a:ext cx="43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0840" y="1903320"/>
            <a:ext cx="201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a. ten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6560" y="594360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8.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600280"/>
            <a:ext cx="426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Since the 3 in the hundredths place is lower than 5, the 7 in the tenths place stays a 7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782960"/>
            <a:ext cx="46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Drop everything past the 7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Round each number to the given place valu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90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1. Round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8.7398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o the nearest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00320" y="120492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73360" y="1833480"/>
            <a:ext cx="34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0840" y="1903320"/>
            <a:ext cx="201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a. ten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6560" y="594360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8.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600280"/>
            <a:ext cx="426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Since the 3 in the hundredths place is lower than 5, the 7 in the tenths place stays a 7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782960"/>
            <a:ext cx="46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Drop everything past the 7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15080" y="19033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b. inte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30800" y="594360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4240" y="2600280"/>
            <a:ext cx="426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Since the 7 in the tenths place is higher than 5, the 8 in the ones place becomes a 9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4240" y="4782960"/>
            <a:ext cx="46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Drop everything past the decim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Round each number to the given place valu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90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2. Round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7,098.56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o the nearest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11440" y="119052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32200" y="1833480"/>
            <a:ext cx="43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0840" y="1903320"/>
            <a:ext cx="292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a. hund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9560" y="594360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,1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600280"/>
            <a:ext cx="426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Since the 9 in the tens place is higher than 5, the 0 in the hundreds place becomes a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782960"/>
            <a:ext cx="464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Everything behind the 1 becomes a 0 up to the decim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Round each number to the given place valu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190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2. Round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7,098.56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o the near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7760" y="118908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98880" y="1817640"/>
            <a:ext cx="34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0840" y="1903320"/>
            <a:ext cx="29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a. hund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63720" y="594360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,1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600280"/>
            <a:ext cx="426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Since the 9 in the tens place is higher than 5, the 0 in the hundreds place becomes a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782960"/>
            <a:ext cx="464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Everything behind the 1 becomes a 0 up to the decim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15080" y="19033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b. ten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30800" y="5943600"/>
            <a:ext cx="263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,098.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4240" y="2600280"/>
            <a:ext cx="464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Since the 6 in the hundredths place is higher than 5, the 5 in the tenths place becomes a 6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4240" y="4782960"/>
            <a:ext cx="46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                      </a:t>
            </a: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Drop everything past the 5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3. Estimate by Roundi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6120" y="1179360"/>
            <a:ext cx="26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a.  $4.89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4960" y="2616120"/>
            <a:ext cx="193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97120" y="2546280"/>
            <a:ext cx="122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$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782720"/>
            <a:ext cx="178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$3.8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2720" y="181620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29160" y="118440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$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91000" y="180324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$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87" idx="3"/>
            <a:endCxn id="92" idx="1"/>
          </p:cNvCxnSpPr>
          <p:nvPr/>
        </p:nvCxnSpPr>
        <p:spPr>
          <a:xfrm>
            <a:off x="2890440" y="1636560"/>
            <a:ext cx="739080" cy="5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endCxn id="93" idx="1"/>
          </p:cNvCxnSpPr>
          <p:nvPr/>
        </p:nvCxnSpPr>
        <p:spPr>
          <a:xfrm flipV="1">
            <a:off x="2730600" y="2260080"/>
            <a:ext cx="861120" cy="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3500280" y="2622600"/>
            <a:ext cx="1290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14720" y="1828800"/>
            <a:ext cx="6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6120" y="3740040"/>
            <a:ext cx="29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b.  453.56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804960" y="5162400"/>
            <a:ext cx="220644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08600" y="5091120"/>
            <a:ext cx="122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4343400"/>
            <a:ext cx="216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30.0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2720" y="437688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40280" y="372888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4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02120" y="434808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98" idx="3"/>
            <a:endCxn id="103" idx="1"/>
          </p:cNvCxnSpPr>
          <p:nvPr/>
        </p:nvCxnSpPr>
        <p:spPr>
          <a:xfrm flipV="1">
            <a:off x="3209400" y="4185360"/>
            <a:ext cx="831240" cy="1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endCxn id="104" idx="1"/>
          </p:cNvCxnSpPr>
          <p:nvPr/>
        </p:nvCxnSpPr>
        <p:spPr>
          <a:xfrm flipV="1">
            <a:off x="3141720" y="4804920"/>
            <a:ext cx="861120" cy="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911760" y="5167440"/>
            <a:ext cx="129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25840" y="4373640"/>
            <a:ext cx="6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4. Estimate by Front-End Estima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6120" y="1179360"/>
            <a:ext cx="26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a.  14.39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4960" y="2616120"/>
            <a:ext cx="234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7480" y="2546280"/>
            <a:ext cx="122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782720"/>
            <a:ext cx="209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79.10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2720" y="181620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89520" y="118440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1360" y="180324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1" idx="3"/>
            <a:endCxn id="116" idx="1"/>
          </p:cNvCxnSpPr>
          <p:nvPr/>
        </p:nvCxnSpPr>
        <p:spPr>
          <a:xfrm>
            <a:off x="2890800" y="1636560"/>
            <a:ext cx="1099440" cy="5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endCxn id="117" idx="1"/>
          </p:cNvCxnSpPr>
          <p:nvPr/>
        </p:nvCxnSpPr>
        <p:spPr>
          <a:xfrm flipV="1">
            <a:off x="3090960" y="2260080"/>
            <a:ext cx="861120" cy="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3860640" y="2622600"/>
            <a:ext cx="1290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75080" y="1828800"/>
            <a:ext cx="6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6120" y="3740040"/>
            <a:ext cx="29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b.  2.298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804960" y="5162400"/>
            <a:ext cx="220644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03680" y="5122800"/>
            <a:ext cx="122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1.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4343400"/>
            <a:ext cx="216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7.7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2720" y="437688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40280" y="372888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.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02120" y="434808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.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2" idx="3"/>
            <a:endCxn id="127" idx="1"/>
          </p:cNvCxnSpPr>
          <p:nvPr/>
        </p:nvCxnSpPr>
        <p:spPr>
          <a:xfrm flipV="1">
            <a:off x="3209400" y="4185360"/>
            <a:ext cx="831240" cy="1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endCxn id="128" idx="1"/>
          </p:cNvCxnSpPr>
          <p:nvPr/>
        </p:nvCxnSpPr>
        <p:spPr>
          <a:xfrm flipV="1">
            <a:off x="3141720" y="4804920"/>
            <a:ext cx="861120" cy="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3911760" y="5167440"/>
            <a:ext cx="129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25840" y="4373640"/>
            <a:ext cx="6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82520" y="1177920"/>
            <a:ext cx="42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1785960"/>
            <a:ext cx="4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12760" y="2519280"/>
            <a:ext cx="100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8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5880" y="2482920"/>
            <a:ext cx="6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54760" y="253044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9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28600" y="3736800"/>
            <a:ext cx="42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4346640"/>
            <a:ext cx="4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98720" y="5124600"/>
            <a:ext cx="100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57400" y="5041800"/>
            <a:ext cx="6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86280" y="508968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10.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5. Estimate by Clusteri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8640" y="1103400"/>
            <a:ext cx="825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a.  $4.50 + $5.20 + $5.5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868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Since all of them are close to $5, you can multipl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54280" y="296244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$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98920" y="294804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14600" y="296244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41640" y="292572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$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00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.  26.7 + 26.2 + 24.52 + 25.25 +23.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865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Since all of them are close to 25, you can multipl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54280" y="594360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98920" y="592920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14600" y="594360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41640" y="590724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1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538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age 125, 3 – 1 #1-13, 15-4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10-13T11:16:07Z</dcterms:modified>
  <cp:revision>52</cp:revision>
  <dc:subject/>
  <dc:title>Slide 1</dc:title>
</cp:coreProperties>
</file>